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605-3F68-4927-B39A-D849EE27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FD6-AFD5-4994-92B9-FFD9E15A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7D9-5004-45E6-8FEA-89E0C4B0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838-7283-41EF-95BF-6F1667D3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A30-63A9-4B69-91CF-D961509D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4B4-43C8-41A2-B88E-E99286A8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B83-179C-4A86-A55F-86927CEF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DC7-37F9-4B8D-AA67-C7CC1978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715-BA6E-4971-9D63-7A48BB7F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108-E0C5-4640-BF95-B15B067F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BCF-A90B-48B5-973E-4BA4018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E1C-C51E-4D2F-BEA9-279522BB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FEBD-AA31-44E3-943F-41158A68B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1" descr="promyshlennaya.jpg"/>
          <p:cNvPicPr/>
          <p:nvPr/>
        </p:nvPicPr>
        <p:blipFill>
          <a:blip r:embed="rId1"/>
          <a:stretch/>
        </p:blipFill>
        <p:spPr>
          <a:xfrm>
            <a:off x="3571920" y="5870520"/>
            <a:ext cx="3097080" cy="2060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2" descr="78523.jpeg"/>
          <p:cNvPicPr/>
          <p:nvPr/>
        </p:nvPicPr>
        <p:blipFill>
          <a:blip r:embed="rId2"/>
          <a:stretch/>
        </p:blipFill>
        <p:spPr>
          <a:xfrm>
            <a:off x="189000" y="4065480"/>
            <a:ext cx="3219480" cy="2116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4038f7f6f5af6194828621c1262056f1.jpg"/>
          <p:cNvPicPr/>
          <p:nvPr/>
        </p:nvPicPr>
        <p:blipFill>
          <a:blip r:embed="rId3"/>
          <a:srcRect l="0" t="40710" r="0" b="19327"/>
          <a:stretch/>
        </p:blipFill>
        <p:spPr>
          <a:xfrm>
            <a:off x="0" y="324000"/>
            <a:ext cx="68580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584280" y="0"/>
            <a:ext cx="6273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algun Gothic"/>
              </a:rPr>
              <a:t>ИНВЕСТИЦИОННОЕ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468360"/>
            <a:ext cx="6858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ОИТЕЛЬСТВО ТЕПЛИЧНОГО ХОЗЯЙСТВА ДЛЯ ВЫРАЩИВАНИЯ ОВО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115920" y="1692360"/>
            <a:ext cx="3251160" cy="277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ПРОЕК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 проекта является строительство тепличного хозяйства для выращивания овощей  для внутреннего и внешнего рын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 позволи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лучшить обеспечение населения района и области качественными продуктами питани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новые рабочие мест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еличить поступления в бюджет Жабинковского район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й участок расположен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,3 км западнее г. Жабинка по  автодороге Жабинка-Рачки, 4 км от автодороги Р-7 «Каменец-Жабинка-Федьковичи»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участка – 3,5 г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500280" y="1692360"/>
            <a:ext cx="3168720" cy="109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ФРАСТРУКТУР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ъезд по гравийной автодорог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ектроснабжени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зоснабжени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снабжени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115920" y="5867280"/>
            <a:ext cx="3225600" cy="295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ДЛЯ ИНВЕС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уплаты налога на прибыль в течение 7 лет со дня принятия решения о создании компании на территории Жабинковского района (от реализации товаров (работ, услуг) собственного производства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уплаты налога на недвижимость в течение 7 лет со дня принятия решения о создании компании на территории Жабинковского район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обязательной продажи валюты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менение повышающих коэффициентов к ставкам земельного налога для компаний, созданных на территории Жабинковского района, иностранными инвесторами либо с их участи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500280" y="2916360"/>
            <a:ext cx="3168720" cy="327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ПРЕИМУЩЕСТВА ДЛЯ ИНВЕСТОРОВ В РАМКАХ ИНВЕСТИЦИОННОГО ДОГОВ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без проведения аукциона на праве аренды земельного участк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e-BY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платы за право заключения договора аренды земельного участк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</a:t>
            </a:r>
            <a:r>
              <a:rPr b="1" lang="be-BY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аты ввозных таможенных пошлин и налога на добавленную стоимость при ввозе на территорию Республики Беларусь оборудования и запасных частей к нему для объектов, связанных с реализацией инвестиционного проект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e-BY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объектов, предусмотренных инвестиционным проектом, параллельно с разработкой, экспертизой и утверждением в установленном порядке необходимой проектно-сметной документа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2" descr=""/>
          <p:cNvPicPr/>
          <p:nvPr/>
        </p:nvPicPr>
        <p:blipFill>
          <a:blip r:embed="rId4"/>
          <a:stretch/>
        </p:blipFill>
        <p:spPr>
          <a:xfrm>
            <a:off x="3486240" y="7869240"/>
            <a:ext cx="3268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0T12:37:54Z</dcterms:created>
  <dc:creator>userok</dc:creator>
  <dc:description/>
  <dc:language>en-US</dc:language>
  <cp:lastModifiedBy>User</cp:lastModifiedBy>
  <dcterms:modified xsi:type="dcterms:W3CDTF">2023-04-13T13:16:28Z</dcterms:modified>
  <cp:revision>9</cp:revision>
  <dc:subject/>
  <dc:title>Слайд 1</dc:title>
</cp:coreProperties>
</file>